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BF8-F280-49BB-929C-6BF2E515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19C-768E-457A-A8F2-E903B7B7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BA0-4AAD-4176-B156-8FA1B9DD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F0C-9241-4BD2-AA06-5D321C36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3CE-6792-4AFC-A9CF-17E7A566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E32-BEF1-4A82-A607-13518AD8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D78-2146-4F27-86FB-3DE3F46F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B6A-105C-4ECF-8186-6B85154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8C2-CB48-49AE-B536-E1B4D7D4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6C4-8AC9-47AB-8B5A-2E40327B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8AC-C59D-4B3B-96D1-82731A1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3F8-37CC-41B0-BA33-EAC6C555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5B14-B107-4E67-80ED-8E1E62AE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support.google.com/sites/bin/answer.py?hl=en&amp;answer=153098&amp;topic=23216&amp;rd=1" TargetMode="External"/><Relationship Id="rId2" Type="http://schemas.openxmlformats.org/officeDocument/2006/relationships/hyperlink" Target="https://sites.google.com/a/googleclassrooms.org/mrs-richau/Hom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Gmail Account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.google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Easy Beginner’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support.google.com/sites/bin/answer.py?hl=en&amp;answer=153098&amp;topic=23216&amp;rd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oogle:  Google Websites Beginner’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--S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81680" y="533520"/>
            <a:ext cx="2086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y Janet Zilk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281560"/>
            <a:ext cx="883908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Mrs. 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Comic Sans MS"/>
              </a:rPr>
              <a:t>Available a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https://sites.google.com/a/googleclassrooms.org/mrs-richau/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rs. Zil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Comic Sans MS"/>
              </a:rPr>
              <a:t>Available a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://sites.google.com/site/zilkash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7200" y="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762120"/>
            <a:ext cx="2200320" cy="19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1219320"/>
            <a:ext cx="4724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ign in at: sites.google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8288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lick the Create Site Butt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187488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352680" y="3352680"/>
            <a:ext cx="5410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hoose a Templ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5191200"/>
            <a:ext cx="4533840" cy="166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1904760" y="2438280"/>
            <a:ext cx="11430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8600" y="685800"/>
            <a:ext cx="6172200" cy="53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791320" y="30492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INK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440" y="396252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572000" cy="222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380880"/>
            <a:ext cx="601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Name Your S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752480" cy="119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343400" y="15238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ype in the C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2057400" cy="108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743200" y="3886200"/>
            <a:ext cx="1828800" cy="8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057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590920" cy="4576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2143080" cy="4686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14400" y="56386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hanging the Side Ba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3554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9480" y="1295280"/>
            <a:ext cx="8153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hen you are finished,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IGN OU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323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terial for this presentation can be found at:  http://sites.google.com/site/zilkash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eacher Workshop 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20:53:30Z</dcterms:created>
  <dc:creator>Peter J. Zilka</dc:creator>
  <dc:description/>
  <dc:language>en-US</dc:language>
  <cp:lastModifiedBy>SHS</cp:lastModifiedBy>
  <dcterms:modified xsi:type="dcterms:W3CDTF">2012-02-15T18:33:54Z</dcterms:modified>
  <cp:revision>18</cp:revision>
  <dc:subject/>
  <dc:title>GOOGLE WEB PAGES</dc:title>
</cp:coreProperties>
</file>